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16.png" ContentType="image/png"/>
  <Override PartName="/ppt/media/image5.png" ContentType="image/png"/>
  <Override PartName="/ppt/media/image7.png" ContentType="image/png"/>
  <Override PartName="/ppt/media/image1.jpeg" ContentType="image/jpeg"/>
  <Override PartName="/ppt/media/image15.jpeg" ContentType="image/jpeg"/>
  <Override PartName="/ppt/media/image3.wmf" ContentType="image/x-wmf"/>
  <Override PartName="/ppt/media/image13.jpeg" ContentType="image/jpeg"/>
  <Override PartName="/ppt/media/image2.png" ContentType="image/png"/>
  <Override PartName="/ppt/media/image4.jpeg" ContentType="image/jpeg"/>
  <Override PartName="/ppt/media/image10.png" ContentType="image/png"/>
  <Override PartName="/ppt/media/image6.jpeg" ContentType="image/jpeg"/>
  <Override PartName="/ppt/media/image14.jpeg" ContentType="image/jpe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06BD-A977-47A7-8513-75C4838A3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F477A-6CA7-4F44-8E3F-F7E1A120DB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Cam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camp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labo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in the camp was terrible</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overcrowd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food ration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soners underwent interrogations to discover and information</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el medical experiments conducted</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5C392-2618-4724-A0CA-BA9B52313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38A5D-7ED9-472D-AD7F-4B3D48D8B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026CD-BC00-4249-B704-D7320F1A7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18157-8DBD-4597-BD8F-A64D5E0BF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AE025-BE72-4519-9E6B-CAA66B095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67D39-0F8D-4BE9-98A6-A1ED568F1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A3778-F411-4D3E-85B0-26D5CCD80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CC69C-805D-4D87-B3CE-64173FB00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55BB4-18DD-48B6-A17B-07588B932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53463-4D48-4766-9BA0-468EAC897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FAE9D-D1DF-4CC1-942C-3F2B8978E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CC6AD-603F-4F7D-A88B-DD504FBEB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A83D6-DC88-4429-B231-87B3B89831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1.xml"/><Relationship Id="rId5" Type="http://schemas.openxmlformats.org/officeDocument/2006/relationships/slide" Target="slide15.xml"/><Relationship Id="rId6" Type="http://schemas.openxmlformats.org/officeDocument/2006/relationships/slide" Target="slide16.xm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hyperlink" Target="http://www.pbs.org/wgbh/pages/frontline/camp/view/" TargetMode="External"/><Relationship Id="rId4" Type="http://schemas.openxmlformats.org/officeDocument/2006/relationships/hyperlink" Target="http://www.pbs.org/auschwitz/maps/" TargetMode="External"/><Relationship Id="rId5" Type="http://schemas.openxmlformats.org/officeDocument/2006/relationships/slide" Target="slide10.xml"/><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historyplace.com/worldwar2/holocaust/h-zyklon.htm" TargetMode="External"/><Relationship Id="rId2" Type="http://schemas.openxmlformats.org/officeDocument/2006/relationships/slide" Target="slide10.xm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usc.edu/schools/college/vhi/pyramidofhate/vhfmain.htm"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8.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21.xml"/><Relationship Id="rId6" Type="http://schemas.openxmlformats.org/officeDocument/2006/relationships/slide" Target="slide22.xm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ushmm.org/wlc/media_da.php?lang=en&amp;ModuleId=10005175&amp;MediaId=107"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504960" y="5790960"/>
            <a:ext cx="5638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WordArt 6"/>
          <p:cNvSpPr txBox="1"/>
          <p:nvPr/>
        </p:nvSpPr>
        <p:spPr>
          <a:xfrm>
            <a:off x="2133720" y="2209680"/>
            <a:ext cx="52578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e Holocaust</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inal Solution</a:t>
            </a:r>
            <a:endParaRPr b="0" lang="en-US" sz="4400" spc="-1" strike="noStrike">
              <a:solidFill>
                <a:srgbClr val="e3ebf1"/>
              </a:solidFill>
              <a:latin typeface="Arial"/>
            </a:endParaRPr>
          </a:p>
        </p:txBody>
      </p:sp>
      <p:pic>
        <p:nvPicPr>
          <p:cNvPr id="81" name="Picture 8" descr="untitled22"/>
          <p:cNvPicPr/>
          <p:nvPr/>
        </p:nvPicPr>
        <p:blipFill>
          <a:blip r:embed="rId1"/>
          <a:stretch/>
        </p:blipFill>
        <p:spPr>
          <a:xfrm>
            <a:off x="228600" y="1828800"/>
            <a:ext cx="5562720" cy="3841920"/>
          </a:xfrm>
          <a:prstGeom prst="rect">
            <a:avLst/>
          </a:prstGeom>
          <a:ln w="0">
            <a:noFill/>
          </a:ln>
        </p:spPr>
      </p:pic>
      <p:sp>
        <p:nvSpPr>
          <p:cNvPr id="82" name="PlaceHolder 2"/>
          <p:cNvSpPr>
            <a:spLocks noGrp="1"/>
          </p:cNvSpPr>
          <p:nvPr>
            <p:ph/>
          </p:nvPr>
        </p:nvSpPr>
        <p:spPr>
          <a:xfrm>
            <a:off x="5866920" y="1447920"/>
            <a:ext cx="403884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2" action="ppaction://hlinksldjump"/>
              </a:rPr>
              <a:t>Ghetto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3" action="ppaction://hlinksldjump"/>
              </a:rPr>
              <a:t>Camp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4" action="ppaction://hlinksldjump"/>
              </a:rPr>
              <a:t>Transpor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5" action="ppaction://hlinksldjump"/>
              </a:rPr>
              <a:t>Gas Chamb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6" action="ppaction://hlinksldjump"/>
              </a:rPr>
              <a:t>Crematori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AutoShape 7">
            <a:hlinkClick r:id="" action="ppaction://hlinkshowjump?jump=previousslide"/>
          </p:cNvPr>
          <p:cNvSpPr/>
          <p:nvPr/>
        </p:nvSpPr>
        <p:spPr>
          <a:xfrm>
            <a:off x="8001000" y="594360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7493"/>
                </a:moveTo>
                <a:lnTo>
                  <a:pt x="9458" y="7493"/>
                </a:lnTo>
                <a:lnTo>
                  <a:pt x="9458" y="12828"/>
                </a:lnTo>
                <a:cubicBezTo>
                  <a:pt x="9458" y="13751"/>
                  <a:pt x="10259" y="14482"/>
                  <a:pt x="11295" y="14482"/>
                </a:cubicBezTo>
                <a:lnTo>
                  <a:pt x="12957" y="14482"/>
                </a:lnTo>
                <a:cubicBezTo>
                  <a:pt x="13993" y="14482"/>
                  <a:pt x="14793" y="13751"/>
                  <a:pt x="14793" y="12828"/>
                </a:cubicBezTo>
                <a:lnTo>
                  <a:pt x="14793" y="7493"/>
                </a:lnTo>
                <a:lnTo>
                  <a:pt x="12957" y="7493"/>
                </a:lnTo>
                <a:lnTo>
                  <a:pt x="16465" y="3985"/>
                </a:lnTo>
                <a:lnTo>
                  <a:pt x="20137" y="7493"/>
                </a:lnTo>
                <a:lnTo>
                  <a:pt x="18301" y="7493"/>
                </a:lnTo>
                <a:lnTo>
                  <a:pt x="18301" y="12828"/>
                </a:lnTo>
                <a:cubicBezTo>
                  <a:pt x="18301" y="15596"/>
                  <a:pt x="15725" y="18155"/>
                  <a:pt x="12957" y="18155"/>
                </a:cubicBezTo>
                <a:lnTo>
                  <a:pt x="11295" y="18155"/>
                </a:lnTo>
                <a:cubicBezTo>
                  <a:pt x="8527" y="18155"/>
                  <a:pt x="5950" y="15596"/>
                  <a:pt x="5950"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portation</a:t>
            </a:r>
            <a:endParaRPr b="0" lang="en-US" sz="4400" spc="-1" strike="noStrike">
              <a:solidFill>
                <a:srgbClr val="e3ebf1"/>
              </a:solidFill>
              <a:latin typeface="Arial"/>
            </a:endParaRPr>
          </a:p>
        </p:txBody>
      </p:sp>
      <p:sp>
        <p:nvSpPr>
          <p:cNvPr id="85" name="PlaceHolder 2"/>
          <p:cNvSpPr>
            <a:spLocks noGrp="1"/>
          </p:cNvSpPr>
          <p:nvPr>
            <p:ph/>
          </p:nvPr>
        </p:nvSpPr>
        <p:spPr>
          <a:xfrm>
            <a:off x="457200" y="2743200"/>
            <a:ext cx="8229600" cy="1828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with a partner on how you believe the transportation of millions of people was actually able to take pla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Text Box 4"/>
          <p:cNvSpPr/>
          <p:nvPr/>
        </p:nvSpPr>
        <p:spPr>
          <a:xfrm>
            <a:off x="5931000" y="5827680"/>
            <a:ext cx="23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ccff"/>
                </a:solidFill>
                <a:uFillTx/>
                <a:latin typeface="Arial"/>
                <a:hlinkClick r:id="rId1" action="ppaction://hlinksldjump"/>
              </a:rPr>
              <a:t>Click Here for Answ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hetto</a:t>
            </a:r>
            <a:endParaRPr b="0" lang="en-US" sz="4400" spc="-1" strike="noStrike">
              <a:solidFill>
                <a:srgbClr val="e3ebf1"/>
              </a:solidFill>
              <a:latin typeface="Arial"/>
            </a:endParaRPr>
          </a:p>
        </p:txBody>
      </p:sp>
      <p:sp>
        <p:nvSpPr>
          <p:cNvPr id="8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rea within a city that all Jews were forced to liv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rations and living conditions were very poo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Ghetto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saw</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dz</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vno</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9" name="Picture 13" descr="fffff"/>
          <p:cNvPicPr/>
          <p:nvPr/>
        </p:nvPicPr>
        <p:blipFill>
          <a:blip r:embed="rId1"/>
          <a:stretch/>
        </p:blipFill>
        <p:spPr>
          <a:xfrm>
            <a:off x="5105520" y="1676520"/>
            <a:ext cx="3033720" cy="4152960"/>
          </a:xfrm>
          <a:prstGeom prst="rect">
            <a:avLst/>
          </a:prstGeom>
          <a:ln w="0">
            <a:noFill/>
          </a:ln>
        </p:spPr>
      </p:pic>
      <p:sp>
        <p:nvSpPr>
          <p:cNvPr id="90" name="AutoShape 12">
            <a:hlinkClick r:id="rId2" action="ppaction://hlinksldjump"/>
          </p:cNvPr>
          <p:cNvSpPr/>
          <p:nvPr/>
        </p:nvSpPr>
        <p:spPr>
          <a:xfrm>
            <a:off x="304920" y="5867280"/>
            <a:ext cx="761760" cy="762120"/>
          </a:xfrm>
          <a:custGeom>
            <a:avLst/>
            <a:gdLst>
              <a:gd name="textAreaLeft" fmla="*/ 49320 w 761760"/>
              <a:gd name="textAreaRight" fmla="*/ 712440 w 761760"/>
              <a:gd name="textAreaTop" fmla="*/ 49320 h 762120"/>
              <a:gd name="textAreaBottom" fmla="*/ 712800 h 76212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7498"/>
                </a:moveTo>
                <a:lnTo>
                  <a:pt x="7301" y="7498"/>
                </a:lnTo>
                <a:lnTo>
                  <a:pt x="7301" y="12833"/>
                </a:lnTo>
                <a:cubicBezTo>
                  <a:pt x="7301" y="13756"/>
                  <a:pt x="8102" y="14487"/>
                  <a:pt x="9138" y="14487"/>
                </a:cubicBezTo>
                <a:lnTo>
                  <a:pt x="10800" y="14487"/>
                </a:lnTo>
                <a:cubicBezTo>
                  <a:pt x="11836" y="14487"/>
                  <a:pt x="12636" y="13756"/>
                  <a:pt x="12636" y="12833"/>
                </a:cubicBezTo>
                <a:lnTo>
                  <a:pt x="12636" y="7498"/>
                </a:lnTo>
                <a:lnTo>
                  <a:pt x="10800" y="7498"/>
                </a:lnTo>
                <a:lnTo>
                  <a:pt x="14308" y="3990"/>
                </a:lnTo>
                <a:lnTo>
                  <a:pt x="17981" y="7498"/>
                </a:lnTo>
                <a:lnTo>
                  <a:pt x="16144" y="7498"/>
                </a:lnTo>
                <a:lnTo>
                  <a:pt x="16144" y="12833"/>
                </a:lnTo>
                <a:cubicBezTo>
                  <a:pt x="16144" y="15601"/>
                  <a:pt x="13568" y="18160"/>
                  <a:pt x="10800" y="18160"/>
                </a:cubicBezTo>
                <a:lnTo>
                  <a:pt x="9138" y="18160"/>
                </a:lnTo>
                <a:cubicBezTo>
                  <a:pt x="6370" y="18160"/>
                  <a:pt x="3794" y="15601"/>
                  <a:pt x="3794" y="12833"/>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ncentration Camps</a:t>
            </a:r>
            <a:endParaRPr b="0" lang="en-US" sz="4400" spc="-1" strike="noStrike">
              <a:solidFill>
                <a:srgbClr val="e3ebf1"/>
              </a:solidFill>
              <a:latin typeface="Arial"/>
            </a:endParaRPr>
          </a:p>
        </p:txBody>
      </p:sp>
      <p:pic>
        <p:nvPicPr>
          <p:cNvPr id="92" name="Picture 10" descr="camp pic 1"/>
          <p:cNvPicPr/>
          <p:nvPr/>
        </p:nvPicPr>
        <p:blipFill>
          <a:blip r:embed="rId1"/>
          <a:stretch/>
        </p:blipFill>
        <p:spPr>
          <a:xfrm>
            <a:off x="609480" y="1295280"/>
            <a:ext cx="3657600" cy="2925720"/>
          </a:xfrm>
          <a:prstGeom prst="rect">
            <a:avLst/>
          </a:prstGeom>
          <a:ln w="0">
            <a:noFill/>
          </a:ln>
        </p:spPr>
      </p:pic>
      <p:pic>
        <p:nvPicPr>
          <p:cNvPr id="93" name="Picture 9" descr="Camp 2"/>
          <p:cNvPicPr/>
          <p:nvPr/>
        </p:nvPicPr>
        <p:blipFill>
          <a:blip r:embed="rId2"/>
          <a:stretch/>
        </p:blipFill>
        <p:spPr>
          <a:xfrm>
            <a:off x="838080" y="4267080"/>
            <a:ext cx="3048120" cy="2006640"/>
          </a:xfrm>
          <a:prstGeom prst="rect">
            <a:avLst/>
          </a:prstGeom>
          <a:ln w="0">
            <a:noFill/>
          </a:ln>
        </p:spPr>
      </p:pic>
      <p:sp>
        <p:nvSpPr>
          <p:cNvPr id="94" name="PlaceHolder 2"/>
          <p:cNvSpPr>
            <a:spLocks noGrp="1"/>
          </p:cNvSpPr>
          <p:nvPr>
            <p:ph/>
          </p:nvPr>
        </p:nvSpPr>
        <p:spPr>
          <a:xfrm>
            <a:off x="4648320" y="190512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Camp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ntration/Lab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mination/Death</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Camp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3"/>
              </a:rPr>
              <a:t>Dauchau-Buchenwa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4"/>
              </a:rPr>
              <a:t>Auschwit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blink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kenau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AutoShape 14">
            <a:hlinkClick r:id="rId5" action="ppaction://hlinksldjump"/>
          </p:cNvPr>
          <p:cNvSpPr/>
          <p:nvPr/>
        </p:nvSpPr>
        <p:spPr>
          <a:xfrm>
            <a:off x="8001000" y="58672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7493"/>
                </a:moveTo>
                <a:lnTo>
                  <a:pt x="9458" y="7493"/>
                </a:lnTo>
                <a:lnTo>
                  <a:pt x="9458" y="12828"/>
                </a:lnTo>
                <a:cubicBezTo>
                  <a:pt x="9458" y="13751"/>
                  <a:pt x="10259" y="14482"/>
                  <a:pt x="11295" y="14482"/>
                </a:cubicBezTo>
                <a:lnTo>
                  <a:pt x="12957" y="14482"/>
                </a:lnTo>
                <a:cubicBezTo>
                  <a:pt x="13993" y="14482"/>
                  <a:pt x="14793" y="13751"/>
                  <a:pt x="14793" y="12828"/>
                </a:cubicBezTo>
                <a:lnTo>
                  <a:pt x="14793" y="7493"/>
                </a:lnTo>
                <a:lnTo>
                  <a:pt x="12957" y="7493"/>
                </a:lnTo>
                <a:lnTo>
                  <a:pt x="16465" y="3985"/>
                </a:lnTo>
                <a:lnTo>
                  <a:pt x="20137" y="7493"/>
                </a:lnTo>
                <a:lnTo>
                  <a:pt x="18301" y="7493"/>
                </a:lnTo>
                <a:lnTo>
                  <a:pt x="18301" y="12828"/>
                </a:lnTo>
                <a:cubicBezTo>
                  <a:pt x="18301" y="15596"/>
                  <a:pt x="15725" y="18155"/>
                  <a:pt x="12957" y="18155"/>
                </a:cubicBezTo>
                <a:lnTo>
                  <a:pt x="11295" y="18155"/>
                </a:lnTo>
                <a:cubicBezTo>
                  <a:pt x="8527" y="18155"/>
                  <a:pt x="5950" y="15596"/>
                  <a:pt x="5950"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portation</a:t>
            </a:r>
            <a:endParaRPr b="0" lang="en-US" sz="4400" spc="-1" strike="noStrike">
              <a:solidFill>
                <a:srgbClr val="e3ebf1"/>
              </a:solidFill>
              <a:latin typeface="Arial"/>
            </a:endParaRPr>
          </a:p>
        </p:txBody>
      </p:sp>
      <p:sp>
        <p:nvSpPr>
          <p:cNvPr id="97" name="PlaceHolder 2"/>
          <p:cNvSpPr>
            <a:spLocks noGrp="1"/>
          </p:cNvSpPr>
          <p:nvPr>
            <p:ph/>
          </p:nvPr>
        </p:nvSpPr>
        <p:spPr>
          <a:xfrm>
            <a:off x="4495320" y="1600200"/>
            <a:ext cx="43434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atic Depor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xc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 people in one c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ors were bolted sh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lace to sit dow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people were forced to pay for their transport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food or water given.</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AutoShape 4">
            <a:hlinkClick r:id="rId1" action="ppaction://hlinksldjump"/>
          </p:cNvPr>
          <p:cNvSpPr/>
          <p:nvPr/>
        </p:nvSpPr>
        <p:spPr>
          <a:xfrm>
            <a:off x="8305920" y="5943600"/>
            <a:ext cx="533160" cy="609480"/>
          </a:xfrm>
          <a:custGeom>
            <a:avLst/>
            <a:gdLst>
              <a:gd name="textAreaLeft" fmla="*/ 34560 w 533160"/>
              <a:gd name="textAreaRight" fmla="*/ 498600 w 533160"/>
              <a:gd name="textAreaTop" fmla="*/ 34560 h 609480"/>
              <a:gd name="textAreaBottom" fmla="*/ 574920 h 609480"/>
            </a:gdLst>
            <a:ahLst/>
            <a:rect l="textAreaLeft" t="textAreaTop" r="textAreaRight" b="textAreaBottom"/>
            <a:pathLst>
              <a:path w="21600" h="24690">
                <a:moveTo>
                  <a:pt x="0" y="0"/>
                </a:moveTo>
                <a:lnTo>
                  <a:pt x="21600" y="0"/>
                </a:lnTo>
                <a:lnTo>
                  <a:pt x="21600" y="24690"/>
                </a:lnTo>
                <a:lnTo>
                  <a:pt x="0" y="24690"/>
                </a:lnTo>
                <a:close/>
              </a:path>
              <a:path fill="lightenLess" w="21600" h="24690">
                <a:moveTo>
                  <a:pt x="0" y="0"/>
                </a:moveTo>
                <a:lnTo>
                  <a:pt x="21600" y="0"/>
                </a:lnTo>
                <a:lnTo>
                  <a:pt x="20200" y="1400"/>
                </a:lnTo>
                <a:lnTo>
                  <a:pt x="1400" y="1400"/>
                </a:lnTo>
                <a:close/>
              </a:path>
              <a:path fill="darken" w="21600" h="24690">
                <a:moveTo>
                  <a:pt x="21600" y="0"/>
                </a:moveTo>
                <a:lnTo>
                  <a:pt x="21600" y="24690"/>
                </a:lnTo>
                <a:lnTo>
                  <a:pt x="20200" y="23290"/>
                </a:lnTo>
                <a:lnTo>
                  <a:pt x="20200" y="1400"/>
                </a:lnTo>
                <a:close/>
              </a:path>
              <a:path fill="darkenLess" w="21600" h="24690">
                <a:moveTo>
                  <a:pt x="21600" y="24690"/>
                </a:moveTo>
                <a:lnTo>
                  <a:pt x="0" y="24690"/>
                </a:lnTo>
                <a:lnTo>
                  <a:pt x="1400" y="23290"/>
                </a:lnTo>
                <a:lnTo>
                  <a:pt x="20200" y="23290"/>
                </a:lnTo>
                <a:close/>
              </a:path>
              <a:path fill="lighten" w="21600" h="24690">
                <a:moveTo>
                  <a:pt x="0" y="24690"/>
                </a:moveTo>
                <a:lnTo>
                  <a:pt x="0" y="0"/>
                </a:lnTo>
                <a:lnTo>
                  <a:pt x="1400" y="1400"/>
                </a:lnTo>
                <a:lnTo>
                  <a:pt x="1400" y="23290"/>
                </a:lnTo>
                <a:close/>
              </a:path>
              <a:path fill="darken" w="21600" h="24690">
                <a:moveTo>
                  <a:pt x="3794" y="9038"/>
                </a:moveTo>
                <a:lnTo>
                  <a:pt x="7301" y="9038"/>
                </a:lnTo>
                <a:lnTo>
                  <a:pt x="7301" y="14373"/>
                </a:lnTo>
                <a:cubicBezTo>
                  <a:pt x="7301" y="15295"/>
                  <a:pt x="8102" y="16027"/>
                  <a:pt x="9138" y="16027"/>
                </a:cubicBezTo>
                <a:lnTo>
                  <a:pt x="10800" y="16027"/>
                </a:lnTo>
                <a:cubicBezTo>
                  <a:pt x="11836" y="16027"/>
                  <a:pt x="12636" y="15295"/>
                  <a:pt x="12636" y="14373"/>
                </a:cubicBezTo>
                <a:lnTo>
                  <a:pt x="12636" y="9038"/>
                </a:lnTo>
                <a:lnTo>
                  <a:pt x="10800" y="9038"/>
                </a:lnTo>
                <a:lnTo>
                  <a:pt x="14308" y="5530"/>
                </a:lnTo>
                <a:lnTo>
                  <a:pt x="17981" y="9038"/>
                </a:lnTo>
                <a:lnTo>
                  <a:pt x="16144" y="9038"/>
                </a:lnTo>
                <a:lnTo>
                  <a:pt x="16144" y="14373"/>
                </a:lnTo>
                <a:cubicBezTo>
                  <a:pt x="16144" y="17141"/>
                  <a:pt x="13568" y="19700"/>
                  <a:pt x="10800" y="19700"/>
                </a:cubicBezTo>
                <a:lnTo>
                  <a:pt x="9138" y="19700"/>
                </a:lnTo>
                <a:cubicBezTo>
                  <a:pt x="6370" y="19700"/>
                  <a:pt x="3794" y="17141"/>
                  <a:pt x="3794" y="14373"/>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9" name="Picture 8" descr="yadvashem5"/>
          <p:cNvPicPr/>
          <p:nvPr/>
        </p:nvPicPr>
        <p:blipFill>
          <a:blip r:embed="rId2"/>
          <a:stretch/>
        </p:blipFill>
        <p:spPr>
          <a:xfrm>
            <a:off x="685800" y="1295280"/>
            <a:ext cx="3400560" cy="2551320"/>
          </a:xfrm>
          <a:prstGeom prst="rect">
            <a:avLst/>
          </a:prstGeom>
          <a:ln w="0">
            <a:noFill/>
          </a:ln>
        </p:spPr>
      </p:pic>
      <p:pic>
        <p:nvPicPr>
          <p:cNvPr id="100" name="Picture 11" descr="01340"/>
          <p:cNvPicPr/>
          <p:nvPr/>
        </p:nvPicPr>
        <p:blipFill>
          <a:blip r:embed="rId3"/>
          <a:stretch/>
        </p:blipFill>
        <p:spPr>
          <a:xfrm>
            <a:off x="685800" y="3962520"/>
            <a:ext cx="3340080" cy="235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as Chambers</a:t>
            </a:r>
            <a:endParaRPr b="0" lang="en-US" sz="4400" spc="-1" strike="noStrike">
              <a:solidFill>
                <a:srgbClr val="e3ebf1"/>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victims did not know of their deat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s Chambers were referred to as Baths/Showers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1"/>
              </a:rPr>
              <a:t>Zyklon B </a:t>
            </a:r>
            <a:r>
              <a:rPr b="0" lang="en-US" sz="2800" spc="-1" strike="noStrike">
                <a:solidFill>
                  <a:srgbClr val="ffffff"/>
                </a:solidFill>
                <a:latin typeface="Arial"/>
              </a:rPr>
              <a:t>– was used as a pois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ions of people came to their death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AutoShape 8">
            <a:hlinkClick r:id="rId2" action="ppaction://hlinksldjump"/>
          </p:cNvPr>
          <p:cNvSpPr/>
          <p:nvPr/>
        </p:nvSpPr>
        <p:spPr>
          <a:xfrm>
            <a:off x="533520" y="5638680"/>
            <a:ext cx="914400" cy="990720"/>
          </a:xfrm>
          <a:custGeom>
            <a:avLst/>
            <a:gdLst>
              <a:gd name="textAreaLeft" fmla="*/ 59040 w 914400"/>
              <a:gd name="textAreaRight" fmla="*/ 855360 w 914400"/>
              <a:gd name="textAreaTop" fmla="*/ 59040 h 990720"/>
              <a:gd name="textAreaBottom" fmla="*/ 931680 h 990720"/>
            </a:gdLst>
            <a:ahLst/>
            <a:rect l="textAreaLeft" t="textAreaTop" r="textAreaRight" b="textAreaBottom"/>
            <a:pathLst>
              <a:path w="21600" h="23402">
                <a:moveTo>
                  <a:pt x="0" y="0"/>
                </a:moveTo>
                <a:lnTo>
                  <a:pt x="21600" y="0"/>
                </a:lnTo>
                <a:lnTo>
                  <a:pt x="21600" y="23402"/>
                </a:lnTo>
                <a:lnTo>
                  <a:pt x="0" y="23402"/>
                </a:lnTo>
                <a:close/>
              </a:path>
              <a:path fill="lightenLess" w="21600" h="23402">
                <a:moveTo>
                  <a:pt x="0" y="0"/>
                </a:moveTo>
                <a:lnTo>
                  <a:pt x="21600" y="0"/>
                </a:lnTo>
                <a:lnTo>
                  <a:pt x="20200" y="1400"/>
                </a:lnTo>
                <a:lnTo>
                  <a:pt x="1400" y="1400"/>
                </a:lnTo>
                <a:close/>
              </a:path>
              <a:path fill="darken" w="21600" h="23402">
                <a:moveTo>
                  <a:pt x="21600" y="0"/>
                </a:moveTo>
                <a:lnTo>
                  <a:pt x="21600" y="23402"/>
                </a:lnTo>
                <a:lnTo>
                  <a:pt x="20200" y="22002"/>
                </a:lnTo>
                <a:lnTo>
                  <a:pt x="20200" y="1400"/>
                </a:lnTo>
                <a:close/>
              </a:path>
              <a:path fill="darkenLess" w="21600" h="23402">
                <a:moveTo>
                  <a:pt x="21600" y="23402"/>
                </a:moveTo>
                <a:lnTo>
                  <a:pt x="0" y="23402"/>
                </a:lnTo>
                <a:lnTo>
                  <a:pt x="1400" y="22002"/>
                </a:lnTo>
                <a:lnTo>
                  <a:pt x="20200" y="22002"/>
                </a:lnTo>
                <a:close/>
              </a:path>
              <a:path fill="lighten" w="21600" h="23402">
                <a:moveTo>
                  <a:pt x="0" y="23402"/>
                </a:moveTo>
                <a:lnTo>
                  <a:pt x="0" y="0"/>
                </a:lnTo>
                <a:lnTo>
                  <a:pt x="1400" y="1400"/>
                </a:lnTo>
                <a:lnTo>
                  <a:pt x="1400" y="22002"/>
                </a:lnTo>
                <a:close/>
              </a:path>
              <a:path fill="darken" w="21600" h="23402">
                <a:moveTo>
                  <a:pt x="3794" y="8394"/>
                </a:moveTo>
                <a:lnTo>
                  <a:pt x="7301" y="8394"/>
                </a:lnTo>
                <a:lnTo>
                  <a:pt x="7301" y="13729"/>
                </a:lnTo>
                <a:cubicBezTo>
                  <a:pt x="7301" y="14652"/>
                  <a:pt x="8102" y="15383"/>
                  <a:pt x="9138" y="15383"/>
                </a:cubicBezTo>
                <a:lnTo>
                  <a:pt x="10800" y="15383"/>
                </a:lnTo>
                <a:cubicBezTo>
                  <a:pt x="11836" y="15383"/>
                  <a:pt x="12636" y="14652"/>
                  <a:pt x="12636" y="13729"/>
                </a:cubicBezTo>
                <a:lnTo>
                  <a:pt x="12636" y="8394"/>
                </a:lnTo>
                <a:lnTo>
                  <a:pt x="10800" y="8394"/>
                </a:lnTo>
                <a:lnTo>
                  <a:pt x="14308" y="4886"/>
                </a:lnTo>
                <a:lnTo>
                  <a:pt x="17981" y="8394"/>
                </a:lnTo>
                <a:lnTo>
                  <a:pt x="16144" y="8394"/>
                </a:lnTo>
                <a:lnTo>
                  <a:pt x="16144" y="13729"/>
                </a:lnTo>
                <a:cubicBezTo>
                  <a:pt x="16144" y="16497"/>
                  <a:pt x="13568" y="19056"/>
                  <a:pt x="10800" y="19056"/>
                </a:cubicBezTo>
                <a:lnTo>
                  <a:pt x="9138" y="19056"/>
                </a:lnTo>
                <a:cubicBezTo>
                  <a:pt x="6370" y="19056"/>
                  <a:pt x="3794" y="16497"/>
                  <a:pt x="3794" y="13729"/>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4" name="Picture 9" descr="8507"/>
          <p:cNvPicPr/>
          <p:nvPr/>
        </p:nvPicPr>
        <p:blipFill>
          <a:blip r:embed="rId3"/>
          <a:stretch/>
        </p:blipFill>
        <p:spPr>
          <a:xfrm>
            <a:off x="5181480" y="1219320"/>
            <a:ext cx="3246480" cy="2436840"/>
          </a:xfrm>
          <a:prstGeom prst="rect">
            <a:avLst/>
          </a:prstGeom>
          <a:ln w="0">
            <a:noFill/>
          </a:ln>
        </p:spPr>
      </p:pic>
      <p:pic>
        <p:nvPicPr>
          <p:cNvPr id="105" name="Picture 10" descr="8510"/>
          <p:cNvPicPr/>
          <p:nvPr/>
        </p:nvPicPr>
        <p:blipFill>
          <a:blip r:embed="rId4"/>
          <a:stretch/>
        </p:blipFill>
        <p:spPr>
          <a:xfrm>
            <a:off x="5105520" y="3809880"/>
            <a:ext cx="3328920" cy="236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rematoriums</a:t>
            </a:r>
            <a:endParaRPr b="0" lang="en-US" sz="4400" spc="-1" strike="noStrike">
              <a:solidFill>
                <a:srgbClr val="e3ebf1"/>
              </a:solidFill>
              <a:latin typeface="Arial"/>
            </a:endParaRPr>
          </a:p>
        </p:txBody>
      </p:sp>
      <p:sp>
        <p:nvSpPr>
          <p:cNvPr id="107" name="PlaceHolder 2"/>
          <p:cNvSpPr>
            <a:spLocks noGrp="1"/>
          </p:cNvSpPr>
          <p:nvPr>
            <p:ph/>
          </p:nvPr>
        </p:nvSpPr>
        <p:spPr>
          <a:xfrm>
            <a:off x="4876920" y="233208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soners were forced to staff the crematorium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job was to remove all valuables from the victim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AutoShape 7">
            <a:hlinkClick r:id="rId1" action="ppaction://hlinksldjump"/>
          </p:cNvPr>
          <p:cNvSpPr/>
          <p:nvPr/>
        </p:nvSpPr>
        <p:spPr>
          <a:xfrm>
            <a:off x="7848720" y="5562720"/>
            <a:ext cx="914400" cy="990360"/>
          </a:xfrm>
          <a:custGeom>
            <a:avLst/>
            <a:gdLst>
              <a:gd name="textAreaLeft" fmla="*/ 59040 w 914400"/>
              <a:gd name="textAreaRight" fmla="*/ 855360 w 914400"/>
              <a:gd name="textAreaTop" fmla="*/ 59040 h 990360"/>
              <a:gd name="textAreaBottom" fmla="*/ 931320 h 990360"/>
            </a:gdLst>
            <a:ahLst/>
            <a:rect l="textAreaLeft" t="textAreaTop" r="textAreaRight" b="textAreaBottom"/>
            <a:pathLst>
              <a:path w="21600" h="23394">
                <a:moveTo>
                  <a:pt x="0" y="0"/>
                </a:moveTo>
                <a:lnTo>
                  <a:pt x="21600" y="0"/>
                </a:lnTo>
                <a:lnTo>
                  <a:pt x="21600" y="23394"/>
                </a:lnTo>
                <a:lnTo>
                  <a:pt x="0" y="23394"/>
                </a:lnTo>
                <a:close/>
              </a:path>
              <a:path fill="lightenLess" w="21600" h="23394">
                <a:moveTo>
                  <a:pt x="0" y="0"/>
                </a:moveTo>
                <a:lnTo>
                  <a:pt x="21600" y="0"/>
                </a:lnTo>
                <a:lnTo>
                  <a:pt x="20200" y="1400"/>
                </a:lnTo>
                <a:lnTo>
                  <a:pt x="1400" y="1400"/>
                </a:lnTo>
                <a:close/>
              </a:path>
              <a:path fill="darken" w="21600" h="23394">
                <a:moveTo>
                  <a:pt x="21600" y="0"/>
                </a:moveTo>
                <a:lnTo>
                  <a:pt x="21600" y="23394"/>
                </a:lnTo>
                <a:lnTo>
                  <a:pt x="20200" y="21994"/>
                </a:lnTo>
                <a:lnTo>
                  <a:pt x="20200" y="1400"/>
                </a:lnTo>
                <a:close/>
              </a:path>
              <a:path fill="darkenLess" w="21600" h="23394">
                <a:moveTo>
                  <a:pt x="21600" y="23394"/>
                </a:moveTo>
                <a:lnTo>
                  <a:pt x="0" y="23394"/>
                </a:lnTo>
                <a:lnTo>
                  <a:pt x="1400" y="21994"/>
                </a:lnTo>
                <a:lnTo>
                  <a:pt x="20200" y="21994"/>
                </a:lnTo>
                <a:close/>
              </a:path>
              <a:path fill="lighten" w="21600" h="23394">
                <a:moveTo>
                  <a:pt x="0" y="23394"/>
                </a:moveTo>
                <a:lnTo>
                  <a:pt x="0" y="0"/>
                </a:lnTo>
                <a:lnTo>
                  <a:pt x="1400" y="1400"/>
                </a:lnTo>
                <a:lnTo>
                  <a:pt x="1400" y="21994"/>
                </a:lnTo>
                <a:close/>
              </a:path>
              <a:path fill="darken" w="21600" h="23394">
                <a:moveTo>
                  <a:pt x="3794" y="8389"/>
                </a:moveTo>
                <a:lnTo>
                  <a:pt x="7301" y="8389"/>
                </a:lnTo>
                <a:lnTo>
                  <a:pt x="7301" y="13725"/>
                </a:lnTo>
                <a:cubicBezTo>
                  <a:pt x="7301" y="14647"/>
                  <a:pt x="8102" y="15378"/>
                  <a:pt x="9138" y="15378"/>
                </a:cubicBezTo>
                <a:lnTo>
                  <a:pt x="10800" y="15378"/>
                </a:lnTo>
                <a:cubicBezTo>
                  <a:pt x="11836" y="15378"/>
                  <a:pt x="12636" y="14647"/>
                  <a:pt x="12636" y="13725"/>
                </a:cubicBezTo>
                <a:lnTo>
                  <a:pt x="12636" y="8389"/>
                </a:lnTo>
                <a:lnTo>
                  <a:pt x="10800" y="8389"/>
                </a:lnTo>
                <a:lnTo>
                  <a:pt x="14308" y="4882"/>
                </a:lnTo>
                <a:lnTo>
                  <a:pt x="17981" y="8389"/>
                </a:lnTo>
                <a:lnTo>
                  <a:pt x="16144" y="8389"/>
                </a:lnTo>
                <a:lnTo>
                  <a:pt x="16144" y="13725"/>
                </a:lnTo>
                <a:cubicBezTo>
                  <a:pt x="16144" y="16493"/>
                  <a:pt x="13568" y="19051"/>
                  <a:pt x="10800" y="19051"/>
                </a:cubicBezTo>
                <a:lnTo>
                  <a:pt x="9138" y="19051"/>
                </a:lnTo>
                <a:cubicBezTo>
                  <a:pt x="6370" y="19051"/>
                  <a:pt x="3794" y="16493"/>
                  <a:pt x="3794" y="13725"/>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9" name="Picture 8" descr="Camp ovens"/>
          <p:cNvPicPr/>
          <p:nvPr/>
        </p:nvPicPr>
        <p:blipFill>
          <a:blip r:embed="rId2"/>
          <a:stretch/>
        </p:blipFill>
        <p:spPr>
          <a:xfrm>
            <a:off x="457200" y="1523880"/>
            <a:ext cx="4038480" cy="2845080"/>
          </a:xfrm>
          <a:prstGeom prst="rect">
            <a:avLst/>
          </a:prstGeom>
          <a:ln w="0">
            <a:noFill/>
          </a:ln>
        </p:spPr>
      </p:pic>
      <p:sp>
        <p:nvSpPr>
          <p:cNvPr id="110" name="Text Box 9"/>
          <p:cNvSpPr/>
          <p:nvPr/>
        </p:nvSpPr>
        <p:spPr>
          <a:xfrm>
            <a:off x="1064160" y="5029200"/>
            <a:ext cx="2743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here to watch 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vivors Testimon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menian Genocide</a:t>
            </a:r>
            <a:endParaRPr b="0" lang="en-US" sz="4400" spc="-1" strike="noStrike">
              <a:solidFill>
                <a:srgbClr val="e3ebf1"/>
              </a:solidFill>
              <a:latin typeface="Arial"/>
            </a:endParaRPr>
          </a:p>
        </p:txBody>
      </p:sp>
      <p:sp>
        <p:nvSpPr>
          <p:cNvPr id="112" name="PlaceHolder 2"/>
          <p:cNvSpPr>
            <a:spLocks noGrp="1"/>
          </p:cNvSpPr>
          <p:nvPr>
            <p:ph/>
          </p:nvPr>
        </p:nvSpPr>
        <p:spPr>
          <a:xfrm>
            <a:off x="533520" y="2332080"/>
            <a:ext cx="8229600" cy="4525920"/>
          </a:xfrm>
          <a:prstGeom prst="rect">
            <a:avLst/>
          </a:prstGeom>
          <a:noFill/>
          <a:ln w="0">
            <a:noFill/>
          </a:ln>
        </p:spPr>
        <p:txBody>
          <a:bodyPr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15 – 1923</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000 men, women and children murder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000 survivors expelled form their homes</a:t>
            </a:r>
            <a:endParaRPr b="0" lang="en-US" sz="2800" spc="-1" strike="noStrike">
              <a:solidFill>
                <a:srgbClr val="ffffff"/>
              </a:solidFill>
              <a:latin typeface="Arial"/>
            </a:endParaRPr>
          </a:p>
        </p:txBody>
      </p:sp>
      <p:sp>
        <p:nvSpPr>
          <p:cNvPr id="113" name="AutoShape 4"/>
          <p:cNvSpPr/>
          <p:nvPr/>
        </p:nvSpPr>
        <p:spPr>
          <a:xfrm>
            <a:off x="792468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7493"/>
                </a:moveTo>
                <a:lnTo>
                  <a:pt x="8284" y="7493"/>
                </a:lnTo>
                <a:lnTo>
                  <a:pt x="8284" y="12828"/>
                </a:lnTo>
                <a:cubicBezTo>
                  <a:pt x="8284" y="13751"/>
                  <a:pt x="9085" y="14482"/>
                  <a:pt x="10121" y="14482"/>
                </a:cubicBezTo>
                <a:lnTo>
                  <a:pt x="11783" y="14482"/>
                </a:lnTo>
                <a:cubicBezTo>
                  <a:pt x="12819" y="14482"/>
                  <a:pt x="13620" y="13751"/>
                  <a:pt x="13620" y="12828"/>
                </a:cubicBezTo>
                <a:lnTo>
                  <a:pt x="13620" y="7493"/>
                </a:lnTo>
                <a:lnTo>
                  <a:pt x="11783" y="7493"/>
                </a:lnTo>
                <a:lnTo>
                  <a:pt x="15291" y="3985"/>
                </a:lnTo>
                <a:lnTo>
                  <a:pt x="18964" y="7493"/>
                </a:lnTo>
                <a:lnTo>
                  <a:pt x="17127" y="7493"/>
                </a:lnTo>
                <a:lnTo>
                  <a:pt x="17127" y="12828"/>
                </a:lnTo>
                <a:cubicBezTo>
                  <a:pt x="17127" y="15596"/>
                  <a:pt x="14551" y="18155"/>
                  <a:pt x="11783" y="18155"/>
                </a:cubicBezTo>
                <a:lnTo>
                  <a:pt x="10121" y="18155"/>
                </a:lnTo>
                <a:cubicBezTo>
                  <a:pt x="7353" y="18155"/>
                  <a:pt x="4777" y="15596"/>
                  <a:pt x="4777"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oviet Union (Famine)</a:t>
            </a:r>
            <a:endParaRPr b="0" lang="en-US" sz="4400" spc="-1" strike="noStrike">
              <a:solidFill>
                <a:srgbClr val="e3ebf1"/>
              </a:solidFill>
              <a:latin typeface="Arial"/>
            </a:endParaRPr>
          </a:p>
        </p:txBody>
      </p:sp>
      <p:sp>
        <p:nvSpPr>
          <p:cNvPr id="115" name="PlaceHolder 2"/>
          <p:cNvSpPr>
            <a:spLocks noGrp="1"/>
          </p:cNvSpPr>
          <p:nvPr>
            <p:ph/>
          </p:nvPr>
        </p:nvSpPr>
        <p:spPr>
          <a:xfrm>
            <a:off x="380880" y="2332080"/>
            <a:ext cx="8229600" cy="4525920"/>
          </a:xfrm>
          <a:prstGeom prst="rect">
            <a:avLst/>
          </a:prstGeom>
          <a:noFill/>
          <a:ln w="0">
            <a:noFill/>
          </a:ln>
        </p:spPr>
        <p:txBody>
          <a:bodyPr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sants, government and military leaders, and members of the elite </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2 – 1933</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made famine – Soviet troops seized all of the crops</a:t>
            </a:r>
            <a:endParaRPr b="0" lang="en-US" sz="2800" spc="-1" strike="noStrike">
              <a:solidFill>
                <a:srgbClr val="ffffff"/>
              </a:solidFill>
              <a:latin typeface="Arial"/>
            </a:endParaRPr>
          </a:p>
        </p:txBody>
      </p:sp>
      <p:sp>
        <p:nvSpPr>
          <p:cNvPr id="116" name="AutoShape 4"/>
          <p:cNvSpPr/>
          <p:nvPr/>
        </p:nvSpPr>
        <p:spPr>
          <a:xfrm>
            <a:off x="784872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7493"/>
                </a:moveTo>
                <a:lnTo>
                  <a:pt x="8284" y="7493"/>
                </a:lnTo>
                <a:lnTo>
                  <a:pt x="8284" y="12828"/>
                </a:lnTo>
                <a:cubicBezTo>
                  <a:pt x="8284" y="13751"/>
                  <a:pt x="9085" y="14482"/>
                  <a:pt x="10121" y="14482"/>
                </a:cubicBezTo>
                <a:lnTo>
                  <a:pt x="11783" y="14482"/>
                </a:lnTo>
                <a:cubicBezTo>
                  <a:pt x="12819" y="14482"/>
                  <a:pt x="13620" y="13751"/>
                  <a:pt x="13620" y="12828"/>
                </a:cubicBezTo>
                <a:lnTo>
                  <a:pt x="13620" y="7493"/>
                </a:lnTo>
                <a:lnTo>
                  <a:pt x="11783" y="7493"/>
                </a:lnTo>
                <a:lnTo>
                  <a:pt x="15291" y="3985"/>
                </a:lnTo>
                <a:lnTo>
                  <a:pt x="18964" y="7493"/>
                </a:lnTo>
                <a:lnTo>
                  <a:pt x="17127" y="7493"/>
                </a:lnTo>
                <a:lnTo>
                  <a:pt x="17127" y="12828"/>
                </a:lnTo>
                <a:cubicBezTo>
                  <a:pt x="17127" y="15596"/>
                  <a:pt x="14551" y="18155"/>
                  <a:pt x="11783" y="18155"/>
                </a:cubicBezTo>
                <a:lnTo>
                  <a:pt x="10121" y="18155"/>
                </a:lnTo>
                <a:cubicBezTo>
                  <a:pt x="7353" y="18155"/>
                  <a:pt x="4777" y="15596"/>
                  <a:pt x="4777"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ambodia</a:t>
            </a:r>
            <a:endParaRPr b="0" lang="en-US" sz="4400" spc="-1" strike="noStrike">
              <a:solidFill>
                <a:srgbClr val="e3ebf1"/>
              </a:solidFill>
              <a:latin typeface="Arial"/>
            </a:endParaRPr>
          </a:p>
        </p:txBody>
      </p:sp>
      <p:sp>
        <p:nvSpPr>
          <p:cNvPr id="118" name="PlaceHolder 2"/>
          <p:cNvSpPr>
            <a:spLocks noGrp="1"/>
          </p:cNvSpPr>
          <p:nvPr>
            <p:ph/>
          </p:nvPr>
        </p:nvSpPr>
        <p:spPr>
          <a:xfrm>
            <a:off x="457200" y="2332080"/>
            <a:ext cx="8229600" cy="4525920"/>
          </a:xfrm>
          <a:prstGeom prst="rect">
            <a:avLst/>
          </a:prstGeom>
          <a:noFill/>
          <a:ln w="0">
            <a:noFill/>
          </a:ln>
        </p:spPr>
        <p:txBody>
          <a:bodyPr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ed, artists, technicians, formers government officials, monks, and minoritie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75- 1979</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00,000 murdered – this includes those who died by slave labor</a:t>
            </a:r>
            <a:endParaRPr b="0" lang="en-US" sz="2800" spc="-1" strike="noStrike">
              <a:solidFill>
                <a:srgbClr val="ffffff"/>
              </a:solidFill>
              <a:latin typeface="Arial"/>
            </a:endParaRPr>
          </a:p>
        </p:txBody>
      </p:sp>
      <p:sp>
        <p:nvSpPr>
          <p:cNvPr id="119" name="AutoShape 4"/>
          <p:cNvSpPr/>
          <p:nvPr/>
        </p:nvSpPr>
        <p:spPr>
          <a:xfrm>
            <a:off x="7924680" y="563868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Question</a:t>
            </a:r>
            <a:endParaRPr b="0" lang="en-US" sz="4400" spc="-1" strike="noStrike">
              <a:solidFill>
                <a:srgbClr val="e3ebf1"/>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examples in History, in which people were discriminated against, hated because of their race, religion or political 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with a partner what it means to discriminate against?</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wanda</a:t>
            </a:r>
            <a:endParaRPr b="0" lang="en-US" sz="4400" spc="-1" strike="noStrike">
              <a:solidFill>
                <a:srgbClr val="e3ebf1"/>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tsi and moderate Hutu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4</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ed only 100 days</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37,000 murdered – largest amounts of people to die in genocide per day</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22" name="AutoShape 4"/>
          <p:cNvSpPr/>
          <p:nvPr/>
        </p:nvSpPr>
        <p:spPr>
          <a:xfrm>
            <a:off x="77724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Yugoslavia</a:t>
            </a:r>
            <a:endParaRPr b="0" lang="en-US" sz="4400" spc="-1" strike="noStrike">
              <a:solidFill>
                <a:srgbClr val="e3ebf1"/>
              </a:solidFill>
              <a:latin typeface="Arial"/>
            </a:endParaRPr>
          </a:p>
        </p:txBody>
      </p:sp>
      <p:sp>
        <p:nvSpPr>
          <p:cNvPr id="124" name="PlaceHolder 2"/>
          <p:cNvSpPr>
            <a:spLocks noGrp="1"/>
          </p:cNvSpPr>
          <p:nvPr>
            <p:ph/>
          </p:nvPr>
        </p:nvSpPr>
        <p:spPr>
          <a:xfrm>
            <a:off x="685800" y="2332080"/>
            <a:ext cx="8229600" cy="4525920"/>
          </a:xfrm>
          <a:prstGeom prst="rect">
            <a:avLst/>
          </a:prstGeom>
          <a:noFill/>
          <a:ln w="0">
            <a:noFill/>
          </a:ln>
        </p:spPr>
        <p:txBody>
          <a:bodyPr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snian Muslims and Croat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2 – 1995 </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rebrenica Massacre – 8,000 murdered</a:t>
            </a:r>
            <a:endParaRPr b="0" lang="en-US" sz="2800" spc="-1" strike="noStrike">
              <a:solidFill>
                <a:srgbClr val="ffffff"/>
              </a:solidFill>
              <a:latin typeface="Arial"/>
            </a:endParaRPr>
          </a:p>
        </p:txBody>
      </p:sp>
      <p:sp>
        <p:nvSpPr>
          <p:cNvPr id="125" name="AutoShape 4"/>
          <p:cNvSpPr/>
          <p:nvPr/>
        </p:nvSpPr>
        <p:spPr>
          <a:xfrm>
            <a:off x="8001000" y="57150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arfur</a:t>
            </a:r>
            <a:endParaRPr b="0" lang="en-US" sz="4400" spc="-1" strike="noStrike">
              <a:solidFill>
                <a:srgbClr val="e3ebf1"/>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 black African groups (including – Fur, Zaghawa and Massalit)</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000 murder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00,000 displac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ly ongoing </a:t>
            </a:r>
            <a:endParaRPr b="0" lang="en-US" sz="28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lict began in February 2003 </a:t>
            </a:r>
            <a:endParaRPr b="0" lang="en-US" sz="24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ms from the 1980’s</a:t>
            </a:r>
            <a:endParaRPr b="0" lang="en-US" sz="24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imates 200,000 killed – this is a conservative estimat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28" name="AutoShape 4"/>
          <p:cNvSpPr/>
          <p:nvPr/>
        </p:nvSpPr>
        <p:spPr>
          <a:xfrm>
            <a:off x="8077320" y="57913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66ccff"/>
                </a:solidFill>
                <a:uFillTx/>
                <a:latin typeface="Arial"/>
                <a:hlinkClick r:id="rId1"/>
              </a:rPr>
              <a:t>Pyramid of Hate</a:t>
            </a:r>
            <a:endParaRPr b="0" lang="en-US" sz="4400" spc="-1" strike="noStrike">
              <a:solidFill>
                <a:srgbClr val="e3ebf1"/>
              </a:solidFill>
              <a:latin typeface="Arial"/>
            </a:endParaRPr>
          </a:p>
        </p:txBody>
      </p:sp>
      <p:pic>
        <p:nvPicPr>
          <p:cNvPr id="54" name="Picture 7" descr="hate"/>
          <p:cNvPicPr/>
          <p:nvPr/>
        </p:nvPicPr>
        <p:blipFill>
          <a:blip r:embed="rId2"/>
          <a:stretch/>
        </p:blipFill>
        <p:spPr>
          <a:xfrm>
            <a:off x="2057400" y="228600"/>
            <a:ext cx="5029200" cy="6269040"/>
          </a:xfrm>
          <a:prstGeom prst="rect">
            <a:avLst/>
          </a:prstGeom>
          <a:ln w="0">
            <a:noFill/>
          </a:ln>
        </p:spPr>
      </p:pic>
      <p:sp>
        <p:nvSpPr>
          <p:cNvPr id="55" name="Text Box 8"/>
          <p:cNvSpPr/>
          <p:nvPr/>
        </p:nvSpPr>
        <p:spPr>
          <a:xfrm>
            <a:off x="5334120" y="2666880"/>
            <a:ext cx="35049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400" spc="-1" strike="noStrike">
                <a:solidFill>
                  <a:srgbClr val="ffffff"/>
                </a:solidFill>
                <a:latin typeface="Arial"/>
              </a:rPr>
              <a:t>This pyramid shows how hate can escalate into something more than just discrimination but into extermination.</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hat is Genocide?</a:t>
            </a:r>
            <a:endParaRPr b="0" lang="en-US" sz="4400" spc="-1" strike="noStrike">
              <a:solidFill>
                <a:srgbClr val="e3ebf1"/>
              </a:solidFill>
              <a:latin typeface="Arial"/>
            </a:endParaRPr>
          </a:p>
        </p:txBody>
      </p:sp>
      <p:sp>
        <p:nvSpPr>
          <p:cNvPr id="57" name="PlaceHolder 2"/>
          <p:cNvSpPr>
            <a:spLocks noGrp="1"/>
          </p:cNvSpPr>
          <p:nvPr>
            <p:ph/>
          </p:nvPr>
        </p:nvSpPr>
        <p:spPr>
          <a:xfrm>
            <a:off x="456840" y="1599840"/>
            <a:ext cx="8381880" cy="350532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ystematic and purposeful destruction of a racial, political, religious, or cultural group.</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t and Current Genocide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locaust</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1" action="ppaction://hlinksldjump"/>
              </a:rPr>
              <a:t>Armenian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2" action="ppaction://hlinksldjump"/>
              </a:rPr>
              <a:t>Soviet Union</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3" action="ppaction://hlinksldjump"/>
              </a:rPr>
              <a:t>Cambodi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4" action="ppaction://hlinksldjump"/>
              </a:rPr>
              <a:t>Rwand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5" action="ppaction://hlinksldjump"/>
              </a:rPr>
              <a:t>Yugoslavi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6" action="ppaction://hlinksldjump"/>
              </a:rPr>
              <a:t>Dafur</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lements Leading to the Holocaust</a:t>
            </a:r>
            <a:endParaRPr b="0" lang="en-US" sz="4000" spc="-1" strike="noStrike">
              <a:solidFill>
                <a:srgbClr val="e3ebf1"/>
              </a:solidFill>
              <a:latin typeface="Arial"/>
            </a:endParaRPr>
          </a:p>
        </p:txBody>
      </p:sp>
      <p:sp>
        <p:nvSpPr>
          <p:cNvPr id="59"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ction="ppaction://hlinksldjump"/>
              </a:rPr>
              <a:t>Totalitarianism</a:t>
            </a:r>
            <a:r>
              <a:rPr b="0" lang="en-US" sz="3200" spc="-1" strike="noStrike">
                <a:solidFill>
                  <a:srgbClr val="ffffff"/>
                </a:solidFill>
                <a:latin typeface="Arial"/>
              </a:rPr>
              <a:t> combined with </a:t>
            </a:r>
            <a:r>
              <a:rPr b="0" lang="en-US" sz="3200" spc="-1" strike="noStrike" u="sng">
                <a:solidFill>
                  <a:srgbClr val="66ccff"/>
                </a:solidFill>
                <a:uFillTx/>
                <a:latin typeface="Arial"/>
                <a:hlinkClick r:id="rId2" action="ppaction://hlinksldjump"/>
              </a:rPr>
              <a:t>National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of </a:t>
            </a:r>
            <a:r>
              <a:rPr b="0" lang="en-US" sz="3200" spc="-1" strike="noStrike" u="sng">
                <a:solidFill>
                  <a:srgbClr val="66ccff"/>
                </a:solidFill>
                <a:uFillTx/>
                <a:latin typeface="Arial"/>
                <a:hlinkClick r:id="rId3" action="ppaction://hlinksldjump"/>
              </a:rPr>
              <a:t>Anti-Semi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eat in World War I</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s belief in the </a:t>
            </a:r>
            <a:r>
              <a:rPr b="0" lang="en-US" sz="3200" spc="-1" strike="noStrike" u="sng">
                <a:solidFill>
                  <a:srgbClr val="66ccff"/>
                </a:solidFill>
                <a:uFillTx/>
                <a:latin typeface="Arial"/>
                <a:hlinkClick r:id="rId4" action="ppaction://hlinksldjump"/>
              </a:rPr>
              <a:t>Master R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0" lang="en-US" sz="3200" spc="-1" strike="noStrike" u="sng">
                <a:solidFill>
                  <a:srgbClr val="66ccff"/>
                </a:solidFill>
                <a:uFillTx/>
                <a:latin typeface="Arial"/>
                <a:hlinkClick r:id="rId5" action="ppaction://hlinksldjump"/>
              </a:rPr>
              <a:t>Final Solution</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talitarianism</a:t>
            </a:r>
            <a:endParaRPr b="0" lang="en-US" sz="4400" spc="-1" strike="noStrike">
              <a:solidFill>
                <a:srgbClr val="e3ebf1"/>
              </a:solidFill>
              <a:latin typeface="Arial"/>
            </a:endParaRPr>
          </a:p>
        </p:txBody>
      </p:sp>
      <p:sp>
        <p:nvSpPr>
          <p:cNvPr id="61" name="PlaceHolder 2"/>
          <p:cNvSpPr>
            <a:spLocks noGrp="1"/>
          </p:cNvSpPr>
          <p:nvPr>
            <p:ph/>
          </p:nvPr>
        </p:nvSpPr>
        <p:spPr>
          <a:xfrm>
            <a:off x="456840" y="1600200"/>
            <a:ext cx="40402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ralized control by an autocratic authority and the political concept that the citizens should be totally subjected to an absolute state authority </a:t>
            </a:r>
            <a:endParaRPr b="0" lang="en-US" sz="2800" spc="-1" strike="noStrike">
              <a:solidFill>
                <a:srgbClr val="ffffff"/>
              </a:solidFill>
              <a:latin typeface="Arial"/>
            </a:endParaRPr>
          </a:p>
        </p:txBody>
      </p:sp>
      <p:sp>
        <p:nvSpPr>
          <p:cNvPr id="62" name="AutoShape 6">
            <a:hlinkClick r:id="" action="ppaction://hlinkshowjump?jump=previousslide"/>
          </p:cNvPr>
          <p:cNvSpPr/>
          <p:nvPr/>
        </p:nvSpPr>
        <p:spPr>
          <a:xfrm>
            <a:off x="304920" y="5410080"/>
            <a:ext cx="1295280" cy="990720"/>
          </a:xfrm>
          <a:custGeom>
            <a:avLst/>
            <a:gdLst>
              <a:gd name="textAreaLeft" fmla="*/ 64080 w 1295280"/>
              <a:gd name="textAreaRight" fmla="*/ 1231200 w 1295280"/>
              <a:gd name="textAreaTop" fmla="*/ 64080 h 990720"/>
              <a:gd name="textAreaBottom" fmla="*/ 926640 h 990720"/>
            </a:gdLst>
            <a:ahLst/>
            <a:rect l="textAreaLeft" t="textAreaTop" r="textAreaRight" b="textAreaBottom"/>
            <a:pathLst>
              <a:path w="28238" h="21600">
                <a:moveTo>
                  <a:pt x="0" y="0"/>
                </a:moveTo>
                <a:lnTo>
                  <a:pt x="28238" y="0"/>
                </a:lnTo>
                <a:lnTo>
                  <a:pt x="28238" y="21600"/>
                </a:lnTo>
                <a:lnTo>
                  <a:pt x="0" y="21600"/>
                </a:lnTo>
                <a:close/>
              </a:path>
              <a:path fill="lightenLess" w="28238" h="21600">
                <a:moveTo>
                  <a:pt x="0" y="0"/>
                </a:moveTo>
                <a:lnTo>
                  <a:pt x="28238" y="0"/>
                </a:lnTo>
                <a:lnTo>
                  <a:pt x="26838" y="1400"/>
                </a:lnTo>
                <a:lnTo>
                  <a:pt x="1400" y="1400"/>
                </a:lnTo>
                <a:close/>
              </a:path>
              <a:path fill="darken" w="28238" h="21600">
                <a:moveTo>
                  <a:pt x="28238" y="0"/>
                </a:moveTo>
                <a:lnTo>
                  <a:pt x="28238" y="21600"/>
                </a:lnTo>
                <a:lnTo>
                  <a:pt x="26838" y="20200"/>
                </a:lnTo>
                <a:lnTo>
                  <a:pt x="26838" y="1400"/>
                </a:lnTo>
                <a:close/>
              </a:path>
              <a:path fill="darkenLess" w="28238" h="21600">
                <a:moveTo>
                  <a:pt x="28238" y="21600"/>
                </a:moveTo>
                <a:lnTo>
                  <a:pt x="0" y="21600"/>
                </a:lnTo>
                <a:lnTo>
                  <a:pt x="1400" y="20200"/>
                </a:lnTo>
                <a:lnTo>
                  <a:pt x="26838" y="20200"/>
                </a:lnTo>
                <a:close/>
              </a:path>
              <a:path fill="lighten" w="28238" h="21600">
                <a:moveTo>
                  <a:pt x="0" y="21600"/>
                </a:moveTo>
                <a:lnTo>
                  <a:pt x="0" y="0"/>
                </a:lnTo>
                <a:lnTo>
                  <a:pt x="1400" y="1400"/>
                </a:lnTo>
                <a:lnTo>
                  <a:pt x="1400" y="20200"/>
                </a:lnTo>
                <a:close/>
              </a:path>
              <a:path fill="darken" w="28238" h="21600">
                <a:moveTo>
                  <a:pt x="7112" y="7493"/>
                </a:moveTo>
                <a:lnTo>
                  <a:pt x="10620" y="7493"/>
                </a:lnTo>
                <a:lnTo>
                  <a:pt x="10620" y="12828"/>
                </a:lnTo>
                <a:cubicBezTo>
                  <a:pt x="10620" y="13751"/>
                  <a:pt x="11421" y="14482"/>
                  <a:pt x="12456" y="14482"/>
                </a:cubicBezTo>
                <a:lnTo>
                  <a:pt x="14119" y="14482"/>
                </a:lnTo>
                <a:cubicBezTo>
                  <a:pt x="15155" y="14482"/>
                  <a:pt x="15955" y="13751"/>
                  <a:pt x="15955" y="12828"/>
                </a:cubicBezTo>
                <a:lnTo>
                  <a:pt x="15955" y="7493"/>
                </a:lnTo>
                <a:lnTo>
                  <a:pt x="14119" y="7493"/>
                </a:lnTo>
                <a:lnTo>
                  <a:pt x="17626" y="3985"/>
                </a:lnTo>
                <a:lnTo>
                  <a:pt x="21299" y="7493"/>
                </a:lnTo>
                <a:lnTo>
                  <a:pt x="19463" y="7493"/>
                </a:lnTo>
                <a:lnTo>
                  <a:pt x="19463" y="12828"/>
                </a:lnTo>
                <a:cubicBezTo>
                  <a:pt x="19463" y="15596"/>
                  <a:pt x="16887" y="18155"/>
                  <a:pt x="14119" y="18155"/>
                </a:cubicBezTo>
                <a:lnTo>
                  <a:pt x="12456" y="18155"/>
                </a:lnTo>
                <a:cubicBezTo>
                  <a:pt x="9689" y="18155"/>
                  <a:pt x="7112" y="15596"/>
                  <a:pt x="7112"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 name="Picture 8" descr="MCj03844020000[1]"/>
          <p:cNvPicPr/>
          <p:nvPr/>
        </p:nvPicPr>
        <p:blipFill>
          <a:blip r:embed="rId1"/>
          <a:stretch/>
        </p:blipFill>
        <p:spPr>
          <a:xfrm>
            <a:off x="5334120" y="1523880"/>
            <a:ext cx="2950920" cy="4743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ationalism</a:t>
            </a:r>
            <a:endParaRPr b="0" lang="en-US" sz="4400" spc="-1" strike="noStrike">
              <a:solidFill>
                <a:srgbClr val="e3ebf1"/>
              </a:solidFill>
              <a:latin typeface="Arial"/>
            </a:endParaRPr>
          </a:p>
        </p:txBody>
      </p:sp>
      <p:sp>
        <p:nvSpPr>
          <p:cNvPr id="65"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4646160" y="1600200"/>
            <a:ext cx="40402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yalty and devotion to a nation; and a sense of national consciousness exalting ones nation above all others and placing primary emphasis on promotion of its culture and interests as opposed to those of other nations or supranational groups</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67" name="Picture 6" descr="dove"/>
          <p:cNvPicPr/>
          <p:nvPr/>
        </p:nvPicPr>
        <p:blipFill>
          <a:blip r:embed="rId1"/>
          <a:stretch/>
        </p:blipFill>
        <p:spPr>
          <a:xfrm>
            <a:off x="609480" y="1600200"/>
            <a:ext cx="3873600" cy="4495680"/>
          </a:xfrm>
          <a:prstGeom prst="rect">
            <a:avLst/>
          </a:prstGeom>
          <a:ln w="0">
            <a:noFill/>
          </a:ln>
        </p:spPr>
      </p:pic>
      <p:sp>
        <p:nvSpPr>
          <p:cNvPr id="68" name="AutoShape 8">
            <a:hlinkClick r:id="" action="ppaction://hlinkshowjump?jump=previousslide"/>
          </p:cNvPr>
          <p:cNvSpPr/>
          <p:nvPr/>
        </p:nvSpPr>
        <p:spPr>
          <a:xfrm>
            <a:off x="8077320" y="5791320"/>
            <a:ext cx="761760" cy="761760"/>
          </a:xfrm>
          <a:custGeom>
            <a:avLst/>
            <a:gdLst>
              <a:gd name="textAreaLeft" fmla="*/ 49320 w 761760"/>
              <a:gd name="textAreaRight" fmla="*/ 712440 w 761760"/>
              <a:gd name="textAreaTop" fmla="*/ 49320 h 761760"/>
              <a:gd name="textAreaBottom" fmla="*/ 712440 h 7617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ti-Semitism</a:t>
            </a:r>
            <a:endParaRPr b="0" lang="en-US" sz="4400" spc="-1" strike="noStrike">
              <a:solidFill>
                <a:srgbClr val="e3ebf1"/>
              </a:solidFill>
              <a:latin typeface="Arial"/>
            </a:endParaRPr>
          </a:p>
        </p:txBody>
      </p:sp>
      <p:sp>
        <p:nvSpPr>
          <p:cNvPr id="70" name="PlaceHolder 2"/>
          <p:cNvSpPr>
            <a:spLocks noGrp="1"/>
          </p:cNvSpPr>
          <p:nvPr>
            <p:ph/>
          </p:nvPr>
        </p:nvSpPr>
        <p:spPr>
          <a:xfrm>
            <a:off x="5181120" y="1600200"/>
            <a:ext cx="3429000" cy="49528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tility toward or discrimination against Jews as a religious, ethnic, or racial group. </a:t>
            </a:r>
            <a:endParaRPr b="0" lang="en-US" sz="2800" spc="-1" strike="noStrike">
              <a:solidFill>
                <a:srgbClr val="ffffff"/>
              </a:solidFill>
              <a:latin typeface="Arial"/>
            </a:endParaRPr>
          </a:p>
        </p:txBody>
      </p:sp>
      <p:pic>
        <p:nvPicPr>
          <p:cNvPr id="71" name="Picture 6" descr="Young Jewish Boy"/>
          <p:cNvPicPr/>
          <p:nvPr/>
        </p:nvPicPr>
        <p:blipFill>
          <a:blip r:embed="rId1"/>
          <a:stretch/>
        </p:blipFill>
        <p:spPr>
          <a:xfrm>
            <a:off x="685800" y="1219320"/>
            <a:ext cx="3657600" cy="2689200"/>
          </a:xfrm>
          <a:prstGeom prst="rect">
            <a:avLst/>
          </a:prstGeom>
          <a:ln w="0">
            <a:noFill/>
          </a:ln>
        </p:spPr>
      </p:pic>
      <p:pic>
        <p:nvPicPr>
          <p:cNvPr id="72" name="Picture 8" descr="1998gunv">
            <a:hlinkClick r:id="rId2"/>
          </p:cNvPr>
          <p:cNvPicPr/>
          <p:nvPr/>
        </p:nvPicPr>
        <p:blipFill>
          <a:blip r:embed="rId3"/>
          <a:stretch/>
        </p:blipFill>
        <p:spPr>
          <a:xfrm>
            <a:off x="685800" y="4114800"/>
            <a:ext cx="3657600" cy="2467080"/>
          </a:xfrm>
          <a:prstGeom prst="rect">
            <a:avLst/>
          </a:prstGeom>
          <a:ln w="0">
            <a:noFill/>
          </a:ln>
        </p:spPr>
      </p:pic>
      <p:sp>
        <p:nvSpPr>
          <p:cNvPr id="73" name="Text Box 9"/>
          <p:cNvSpPr/>
          <p:nvPr/>
        </p:nvSpPr>
        <p:spPr>
          <a:xfrm>
            <a:off x="9748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AutoShape 10">
            <a:hlinkClick r:id="" action="ppaction://hlinkshowjump?jump=previousslide"/>
          </p:cNvPr>
          <p:cNvSpPr/>
          <p:nvPr/>
        </p:nvSpPr>
        <p:spPr>
          <a:xfrm>
            <a:off x="8001000" y="5638680"/>
            <a:ext cx="914400" cy="914400"/>
          </a:xfrm>
          <a:custGeom>
            <a:avLst/>
            <a:gdLst>
              <a:gd name="textAreaLeft" fmla="*/ 59040 w 914400"/>
              <a:gd name="textAreaRight" fmla="*/ 855360 w 914400"/>
              <a:gd name="textAreaTop" fmla="*/ 59040 h 914400"/>
              <a:gd name="textAreaBottom" fmla="*/ 855360 h 914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ster Race</a:t>
            </a:r>
            <a:endParaRPr b="0" lang="en-US" sz="4400" spc="-1" strike="noStrike">
              <a:solidFill>
                <a:srgbClr val="e3ebf1"/>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in Nazism to designate a supposed master race of Non-Jewish Caucasians usually </a:t>
            </a:r>
            <a:r>
              <a:rPr b="0" lang="en-US" sz="2800" spc="-1" strike="noStrike">
                <a:solidFill>
                  <a:srgbClr val="ffffff"/>
                </a:solidFill>
                <a:latin typeface="Arial"/>
              </a:rPr>
              <a:t>	</a:t>
            </a:r>
            <a:r>
              <a:rPr b="0" lang="en-US" sz="2800" spc="-1" strike="noStrike">
                <a:solidFill>
                  <a:srgbClr val="ffffff"/>
                </a:solidFill>
                <a:latin typeface="Arial"/>
              </a:rPr>
              <a:t>having Nordic feature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nd hair and Blue ey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n as the Aryan Race </a:t>
            </a:r>
            <a:endParaRPr b="0" lang="en-US" sz="2400" spc="-1" strike="noStrike">
              <a:solidFill>
                <a:srgbClr val="ffffff"/>
              </a:solidFill>
              <a:latin typeface="Arial"/>
            </a:endParaRPr>
          </a:p>
        </p:txBody>
      </p:sp>
      <p:pic>
        <p:nvPicPr>
          <p:cNvPr id="77" name="Picture 5" descr="untitled"/>
          <p:cNvPicPr/>
          <p:nvPr/>
        </p:nvPicPr>
        <p:blipFill>
          <a:blip r:embed="rId1"/>
          <a:stretch/>
        </p:blipFill>
        <p:spPr>
          <a:xfrm>
            <a:off x="838080" y="1447920"/>
            <a:ext cx="3389400" cy="4525920"/>
          </a:xfrm>
          <a:prstGeom prst="rect">
            <a:avLst/>
          </a:prstGeom>
          <a:ln w="0">
            <a:noFill/>
          </a:ln>
        </p:spPr>
      </p:pic>
      <p:sp>
        <p:nvSpPr>
          <p:cNvPr id="78" name="Text Box 7"/>
          <p:cNvSpPr/>
          <p:nvPr/>
        </p:nvSpPr>
        <p:spPr>
          <a:xfrm>
            <a:off x="537480" y="6095880"/>
            <a:ext cx="402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t Showing the Races of Germany</a:t>
            </a:r>
            <a:endParaRPr b="0" lang="en-US" sz="1800" spc="-1" strike="noStrike">
              <a:solidFill>
                <a:srgbClr val="ffffff"/>
              </a:solidFill>
              <a:latin typeface="Arial"/>
            </a:endParaRPr>
          </a:p>
        </p:txBody>
      </p:sp>
      <p:sp>
        <p:nvSpPr>
          <p:cNvPr id="79" name="AutoShape 8">
            <a:hlinkClick r:id="" action="ppaction://hlinkshowjump?jump=previousslide"/>
          </p:cNvPr>
          <p:cNvSpPr/>
          <p:nvPr/>
        </p:nvSpPr>
        <p:spPr>
          <a:xfrm>
            <a:off x="8001000" y="57913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7493"/>
                </a:moveTo>
                <a:lnTo>
                  <a:pt x="8284" y="7493"/>
                </a:lnTo>
                <a:lnTo>
                  <a:pt x="8284" y="12828"/>
                </a:lnTo>
                <a:cubicBezTo>
                  <a:pt x="8284" y="13751"/>
                  <a:pt x="9085" y="14482"/>
                  <a:pt x="10121" y="14482"/>
                </a:cubicBezTo>
                <a:lnTo>
                  <a:pt x="11783" y="14482"/>
                </a:lnTo>
                <a:cubicBezTo>
                  <a:pt x="12819" y="14482"/>
                  <a:pt x="13620" y="13751"/>
                  <a:pt x="13620" y="12828"/>
                </a:cubicBezTo>
                <a:lnTo>
                  <a:pt x="13620" y="7493"/>
                </a:lnTo>
                <a:lnTo>
                  <a:pt x="11783" y="7493"/>
                </a:lnTo>
                <a:lnTo>
                  <a:pt x="15291" y="3985"/>
                </a:lnTo>
                <a:lnTo>
                  <a:pt x="18964" y="7493"/>
                </a:lnTo>
                <a:lnTo>
                  <a:pt x="17127" y="7493"/>
                </a:lnTo>
                <a:lnTo>
                  <a:pt x="17127" y="12828"/>
                </a:lnTo>
                <a:cubicBezTo>
                  <a:pt x="17127" y="15596"/>
                  <a:pt x="14551" y="18155"/>
                  <a:pt x="11783" y="18155"/>
                </a:cubicBezTo>
                <a:lnTo>
                  <a:pt x="10121" y="18155"/>
                </a:lnTo>
                <a:cubicBezTo>
                  <a:pt x="7353" y="18155"/>
                  <a:pt x="4777" y="15596"/>
                  <a:pt x="4777"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13:17:57Z</dcterms:created>
  <dc:creator>volunteer</dc:creator>
  <dc:description/>
  <dc:language>en-US</dc:language>
  <cp:lastModifiedBy>ED18</cp:lastModifiedBy>
  <dcterms:modified xsi:type="dcterms:W3CDTF">2011-01-11T13:46:38Z</dcterms:modified>
  <cp:revision>4</cp:revision>
  <dc:subject/>
  <dc:title>Slide 1</dc:title>
</cp:coreProperties>
</file>